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C2FD-DF03-4AC3-9B8B-A8144E2CC0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4B55-B749-4033-853E-0C1EC94415F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52D7-0D6A-407F-B355-13383412549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7385-15B4-44E6-8F42-8A7AA7DC5F3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BF4E-5EB5-4452-997C-A6673FBC005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9C02-B1E0-4077-A3FB-94D2A26E8E0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9627C7-9341-4983-8B6E-DF95CFC6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D4A76-9CDA-4442-9F3A-7773DE39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D9016-7771-4622-84C9-4077B30E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4CE0AF-105A-4209-B212-7A652234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E59B3-F684-4073-A934-7BBFC3D0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6A31E-0D68-48A4-9A63-8CD6EE20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6DED6-A149-4152-AC8A-820106E1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4D3EF-39ED-4F51-B275-DAF1C1DA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B51DA-7ABB-485D-8398-127E67EF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8114B8-89BB-4AB4-AFE2-D411EBB6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BFBE4-316E-442C-B9ED-A863F5EC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A9DB4-23EB-4888-BD55-3A3F68C7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AB392-587C-4328-8065-2696FF8B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3A26C-7748-4280-AFC0-E1926C78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DB6B8-6EE7-4FAF-8B20-4F69D8D6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E1C91-2D18-492D-836C-CFA44AD3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8CD79-8189-47E3-96F6-D2D8E086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7D110-A343-4738-9982-06D81ECB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7C6A8-04A9-44EF-AFA6-C080FDA0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C3F59-38AD-4F10-A919-7AFB501B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47BE9-DE05-4CF5-9447-8CF23A96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D1207-63FA-4D14-9D65-6E29B0B8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40C77-B271-4808-A0C8-317462E8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A85E7-36ED-486A-A3BA-9E42F8AD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379E8-07BF-47D8-86ED-9CD940C9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A93F6A-AE3A-4B91-9A9C-C3A73F02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0600B7-1C6E-4C7B-BE7D-ABE3165B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7B17A-8B50-421D-93A9-E7A41C76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D9AD9-9C1D-437B-9D98-8CB5CB4A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B4C8B-3288-490C-ABE4-73DCED1B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0A3A55-D06D-4A8D-9907-68CDD2B8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EB2F6-CDA4-48A0-84E2-3828910C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31D49D-4496-4D4A-A487-48B191EB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E854B8-6348-4816-A1EA-8374779C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326355-AF62-4472-94D9-2CD6E605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3707C-B5E8-481D-9A77-87CEAAC9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983CE-7539-4A04-99B3-6B23D1DB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C44C6-14AD-4CB1-88D3-92EDDFD6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C9BD8-EED9-4741-88D2-9A66584F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57F4E-43E4-47A0-A913-41DC66AF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EB2F-C501-4E03-A8B6-F190EB40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A7BFC-289D-4C41-A27E-FB4A7646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32877-BB57-4DA0-A5EC-538D893E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4528A-943F-4F29-BFC6-2FFE861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B3CE2-DAAB-463E-A987-DABDED05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FD171-ADB6-488D-8EB7-2220850E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9045C-11FF-4B21-9AB7-2803F68F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61F3-79A9-466B-9ABF-42692540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2C99-60D1-4C84-8A0B-34504DFED90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9630-41C2-4491-8D06-C100C1F568E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2254-45B7-4AE9-9939-0E3CF38240C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6291-6180-4BC9-87C8-F670D1F83AA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9CCE-C445-4D31-A23F-9EF22E308EC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009F-0E2A-48B6-A29F-9CCC4CCA8D9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FC83-354A-4A4F-9CC6-59F693095E4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2A04-9FB1-4FCD-9895-824958B3658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F24E-8E0A-4DF4-A6A8-FD9DFBC8974E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A55B-5C61-4F79-9480-0376AA56F0D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87E0-C9EF-4E55-BF62-AC0289AB473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27B6-030B-42F4-B478-476F91F77FC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404-9BDF-4DCE-8252-4DFBB6E26A5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B35F-2A4A-4632-9199-882362CA158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71A8-0562-4B39-976B-AF81A3617FC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0770-ADD7-4E57-B5F5-C3EA534EBAB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EE98-7F25-4180-A825-FCE6BE1A50D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그룹 13"/>
          <p:cNvGrpSpPr/>
          <p:nvPr/>
        </p:nvGrpSpPr>
        <p:grpSpPr>
          <a:xfrm>
            <a:off x="71280" y="0"/>
            <a:ext cx="9001440" cy="6428880"/>
            <a:chOff x="71280" y="0"/>
            <a:chExt cx="9001440" cy="6428880"/>
          </a:xfrm>
        </p:grpSpPr>
        <p:sp>
          <p:nvSpPr>
            <p:cNvPr id="1038" name="AutoShape 2"/>
            <p:cNvSpPr/>
            <p:nvPr/>
          </p:nvSpPr>
          <p:spPr>
            <a:xfrm>
              <a:off x="71280" y="500040"/>
              <a:ext cx="9001440" cy="114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214272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1714320"/>
              <a:ext cx="8787240" cy="2190960"/>
              <a:chOff x="213840" y="1714320"/>
              <a:chExt cx="8787240" cy="219096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228708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의 주요 서비스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서비스와 간접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6" name="AutoShape 2"/>
            <p:cNvSpPr/>
            <p:nvPr/>
          </p:nvSpPr>
          <p:spPr>
            <a:xfrm>
              <a:off x="71280" y="442872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7" name="그룹 10"/>
            <p:cNvGrpSpPr/>
            <p:nvPr/>
          </p:nvGrpSpPr>
          <p:grpSpPr>
            <a:xfrm>
              <a:off x="213840" y="3928680"/>
              <a:ext cx="8787240" cy="2494800"/>
              <a:chOff x="213840" y="3928680"/>
              <a:chExt cx="8787240" cy="2494800"/>
            </a:xfrm>
          </p:grpSpPr>
          <p:sp>
            <p:nvSpPr>
              <p:cNvPr id="1048" name="AutoShape 4"/>
              <p:cNvSpPr/>
              <p:nvPr/>
            </p:nvSpPr>
            <p:spPr>
              <a:xfrm>
                <a:off x="285120" y="392868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9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그룹 7"/>
          <p:cNvGrpSpPr/>
          <p:nvPr/>
        </p:nvGrpSpPr>
        <p:grpSpPr>
          <a:xfrm>
            <a:off x="0" y="0"/>
            <a:ext cx="9325080" cy="6215040"/>
            <a:chOff x="0" y="0"/>
            <a:chExt cx="9325080" cy="6215040"/>
          </a:xfrm>
        </p:grpSpPr>
        <p:pic>
          <p:nvPicPr>
            <p:cNvPr id="10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3" name="그룹 20"/>
            <p:cNvGrpSpPr/>
            <p:nvPr/>
          </p:nvGrpSpPr>
          <p:grpSpPr>
            <a:xfrm>
              <a:off x="285480" y="1785960"/>
              <a:ext cx="9039600" cy="4429080"/>
              <a:chOff x="285480" y="1785960"/>
              <a:chExt cx="9039600" cy="4429080"/>
            </a:xfrm>
          </p:grpSpPr>
          <p:sp>
            <p:nvSpPr>
              <p:cNvPr id="1054" name="AutoShape 2"/>
              <p:cNvSpPr/>
              <p:nvPr/>
            </p:nvSpPr>
            <p:spPr>
              <a:xfrm>
                <a:off x="285480" y="1785960"/>
                <a:ext cx="875124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5" name="Text Box 25"/>
              <p:cNvSpPr/>
              <p:nvPr/>
            </p:nvSpPr>
            <p:spPr>
              <a:xfrm>
                <a:off x="428040" y="1896840"/>
                <a:ext cx="889704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성담론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뿐만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성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8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9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0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2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63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4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5" name="Text Box 6"/>
              <p:cNvSpPr/>
              <p:nvPr/>
            </p:nvSpPr>
            <p:spPr>
              <a:xfrm>
                <a:off x="357120" y="3136680"/>
                <a:ext cx="850140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8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9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0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 각각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71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그룹 10"/>
          <p:cNvGrpSpPr/>
          <p:nvPr/>
        </p:nvGrpSpPr>
        <p:grpSpPr>
          <a:xfrm>
            <a:off x="0" y="0"/>
            <a:ext cx="9501120" cy="6357240"/>
            <a:chOff x="0" y="0"/>
            <a:chExt cx="9501120" cy="6357240"/>
          </a:xfrm>
        </p:grpSpPr>
        <p:pic>
          <p:nvPicPr>
            <p:cNvPr id="10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5" name="그룹 34"/>
            <p:cNvGrpSpPr/>
            <p:nvPr/>
          </p:nvGrpSpPr>
          <p:grpSpPr>
            <a:xfrm>
              <a:off x="251280" y="1785600"/>
              <a:ext cx="8678160" cy="4571640"/>
              <a:chOff x="251280" y="1785600"/>
              <a:chExt cx="8678160" cy="457164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2384280"/>
                <a:ext cx="8643960" cy="397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8" name="Text Box 6"/>
              <p:cNvSpPr/>
              <p:nvPr/>
            </p:nvSpPr>
            <p:spPr>
              <a:xfrm>
                <a:off x="251280" y="2594520"/>
                <a:ext cx="86439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할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엄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 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00b0f0"/>
                    </a:solidFill>
                    <a:latin typeface="HY강M"/>
                    <a:ea typeface="HY강M"/>
                  </a:rPr>
                  <a:t>청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적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00b050"/>
                    </a:solidFill>
                    <a:latin typeface="HY강M"/>
                    <a:ea typeface="HY강M"/>
                  </a:rPr>
                  <a:t>녹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생활노인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증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9" name="그룹 15"/>
            <p:cNvGrpSpPr/>
            <p:nvPr/>
          </p:nvGrpSpPr>
          <p:grpSpPr>
            <a:xfrm>
              <a:off x="285480" y="785520"/>
              <a:ext cx="8643960" cy="856800"/>
              <a:chOff x="285480" y="785520"/>
              <a:chExt cx="8643960" cy="856800"/>
            </a:xfrm>
          </p:grpSpPr>
          <p:sp>
            <p:nvSpPr>
              <p:cNvPr id="1080" name="AutoShape 2"/>
              <p:cNvSpPr/>
              <p:nvPr/>
            </p:nvSpPr>
            <p:spPr>
              <a:xfrm>
                <a:off x="285480" y="785520"/>
                <a:ext cx="8643960" cy="856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1" name="Text Box 6"/>
              <p:cNvSpPr/>
              <p:nvPr/>
            </p:nvSpPr>
            <p:spPr>
              <a:xfrm>
                <a:off x="428040" y="799920"/>
                <a:ext cx="828684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제도 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83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4" name="그룹 10"/>
            <p:cNvGrpSpPr/>
            <p:nvPr/>
          </p:nvGrpSpPr>
          <p:grpSpPr>
            <a:xfrm>
              <a:off x="285480" y="142920"/>
              <a:ext cx="8715600" cy="6105960"/>
              <a:chOff x="285480" y="142920"/>
              <a:chExt cx="8715600" cy="6105960"/>
            </a:xfrm>
          </p:grpSpPr>
          <p:sp>
            <p:nvSpPr>
              <p:cNvPr id="1085" name="AutoShape 4"/>
              <p:cNvSpPr/>
              <p:nvPr/>
            </p:nvSpPr>
            <p:spPr>
              <a:xfrm>
                <a:off x="285480" y="142920"/>
                <a:ext cx="41436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6"/>
              <p:cNvSpPr/>
              <p:nvPr/>
            </p:nvSpPr>
            <p:spPr>
              <a:xfrm>
                <a:off x="285480" y="1095480"/>
                <a:ext cx="8715600" cy="515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geism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정관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tereotyp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rejudic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iscrimination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지식과 기술의 낙후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그룹 29"/>
          <p:cNvGrpSpPr/>
          <p:nvPr/>
        </p:nvGrpSpPr>
        <p:grpSpPr>
          <a:xfrm>
            <a:off x="179280" y="27000"/>
            <a:ext cx="8964720" cy="6402240"/>
            <a:chOff x="179280" y="27000"/>
            <a:chExt cx="8964720" cy="6402240"/>
          </a:xfrm>
        </p:grpSpPr>
        <p:grpSp>
          <p:nvGrpSpPr>
            <p:cNvPr id="1088" name="그룹 18"/>
            <p:cNvGrpSpPr/>
            <p:nvPr/>
          </p:nvGrpSpPr>
          <p:grpSpPr>
            <a:xfrm>
              <a:off x="179280" y="27000"/>
              <a:ext cx="8964720" cy="984240"/>
              <a:chOff x="179280" y="27000"/>
              <a:chExt cx="8964720" cy="98424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8160" y="571320"/>
                <a:ext cx="881784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25"/>
              <p:cNvSpPr/>
              <p:nvPr/>
            </p:nvSpPr>
            <p:spPr>
              <a:xfrm>
                <a:off x="291960" y="642960"/>
                <a:ext cx="885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AutoShape 4"/>
              <p:cNvSpPr/>
              <p:nvPr/>
            </p:nvSpPr>
            <p:spPr>
              <a:xfrm>
                <a:off x="179280" y="27000"/>
                <a:ext cx="373212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92" name="그룹 11"/>
            <p:cNvGrpSpPr/>
            <p:nvPr/>
          </p:nvGrpSpPr>
          <p:grpSpPr>
            <a:xfrm>
              <a:off x="214920" y="1000080"/>
              <a:ext cx="8856000" cy="1055520"/>
              <a:chOff x="214920" y="1000080"/>
              <a:chExt cx="8856000" cy="1055520"/>
            </a:xfrm>
          </p:grpSpPr>
          <p:sp>
            <p:nvSpPr>
              <p:cNvPr id="1093" name="AutoShape 2"/>
              <p:cNvSpPr/>
              <p:nvPr/>
            </p:nvSpPr>
            <p:spPr>
              <a:xfrm>
                <a:off x="215640" y="1356480"/>
                <a:ext cx="885528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4" name="Text Box 6"/>
              <p:cNvSpPr/>
              <p:nvPr/>
            </p:nvSpPr>
            <p:spPr>
              <a:xfrm>
                <a:off x="214920" y="1356840"/>
                <a:ext cx="87832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노인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5" name="직사각형 17"/>
              <p:cNvSpPr/>
              <p:nvPr/>
            </p:nvSpPr>
            <p:spPr>
              <a:xfrm>
                <a:off x="214920" y="1000080"/>
                <a:ext cx="5783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6" name="AutoShape 2"/>
            <p:cNvSpPr/>
            <p:nvPr/>
          </p:nvSpPr>
          <p:spPr>
            <a:xfrm>
              <a:off x="288000" y="2428920"/>
              <a:ext cx="885600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7" name="Text Box 6"/>
            <p:cNvSpPr/>
            <p:nvPr/>
          </p:nvSpPr>
          <p:spPr>
            <a:xfrm>
              <a:off x="288720" y="2428920"/>
              <a:ext cx="878220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에서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8" name="직사각형 24"/>
            <p:cNvSpPr/>
            <p:nvPr/>
          </p:nvSpPr>
          <p:spPr>
            <a:xfrm>
              <a:off x="215640" y="2071440"/>
              <a:ext cx="5781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9" name="그룹 15"/>
            <p:cNvGrpSpPr/>
            <p:nvPr/>
          </p:nvGrpSpPr>
          <p:grpSpPr>
            <a:xfrm>
              <a:off x="288000" y="4929120"/>
              <a:ext cx="8856000" cy="1500120"/>
              <a:chOff x="288000" y="4929120"/>
              <a:chExt cx="8856000" cy="150012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288000" y="5288040"/>
                <a:ext cx="885600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1" name="Text Box 6"/>
              <p:cNvSpPr/>
              <p:nvPr/>
            </p:nvSpPr>
            <p:spPr>
              <a:xfrm>
                <a:off x="288360" y="5295600"/>
                <a:ext cx="885564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9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베이비붐 세대가 노인이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면 노인권익운동이 활성화될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2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직사각형 28"/>
              <p:cNvSpPr/>
              <p:nvPr/>
            </p:nvSpPr>
            <p:spPr>
              <a:xfrm>
                <a:off x="288360" y="4929120"/>
                <a:ext cx="578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4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옴부즈맨제도가 대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8" name="그룹 11"/>
            <p:cNvGrpSpPr/>
            <p:nvPr/>
          </p:nvGrpSpPr>
          <p:grpSpPr>
            <a:xfrm>
              <a:off x="214200" y="1217520"/>
              <a:ext cx="8715600" cy="5091120"/>
              <a:chOff x="214200" y="1217520"/>
              <a:chExt cx="8715600" cy="5091120"/>
            </a:xfrm>
          </p:grpSpPr>
          <p:sp>
            <p:nvSpPr>
              <p:cNvPr id="1109" name="AutoShape 2"/>
              <p:cNvSpPr/>
              <p:nvPr/>
            </p:nvSpPr>
            <p:spPr>
              <a:xfrm>
                <a:off x="214200" y="1556280"/>
                <a:ext cx="871560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0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1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13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4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6-327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5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그룹 10"/>
          <p:cNvGrpSpPr/>
          <p:nvPr/>
        </p:nvGrpSpPr>
        <p:grpSpPr>
          <a:xfrm>
            <a:off x="285840" y="79200"/>
            <a:ext cx="9686880" cy="6350040"/>
            <a:chOff x="285840" y="79200"/>
            <a:chExt cx="9686880" cy="6350040"/>
          </a:xfrm>
        </p:grpSpPr>
        <p:grpSp>
          <p:nvGrpSpPr>
            <p:cNvPr id="1117" name="그룹 11"/>
            <p:cNvGrpSpPr/>
            <p:nvPr/>
          </p:nvGrpSpPr>
          <p:grpSpPr>
            <a:xfrm>
              <a:off x="285840" y="713880"/>
              <a:ext cx="9686880" cy="2481120"/>
              <a:chOff x="285840" y="713880"/>
              <a:chExt cx="9686880" cy="2481120"/>
            </a:xfrm>
          </p:grpSpPr>
          <p:sp>
            <p:nvSpPr>
              <p:cNvPr id="1118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9" name="Text Box 6"/>
              <p:cNvSpPr/>
              <p:nvPr/>
            </p:nvSpPr>
            <p:spPr>
              <a:xfrm>
                <a:off x="357120" y="1071000"/>
                <a:ext cx="9615600" cy="20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use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andonmen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eglec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착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exploitation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altreatment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21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22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23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4" name="Text Box 6"/>
              <p:cNvSpPr/>
              <p:nvPr/>
            </p:nvSpPr>
            <p:spPr>
              <a:xfrm>
                <a:off x="357120" y="3714480"/>
                <a:ext cx="850104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5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8"/>
          <p:cNvGrpSpPr/>
          <p:nvPr/>
        </p:nvGrpSpPr>
        <p:grpSpPr>
          <a:xfrm>
            <a:off x="285840" y="500040"/>
            <a:ext cx="8694720" cy="5857920"/>
            <a:chOff x="285840" y="500040"/>
            <a:chExt cx="8694720" cy="5857920"/>
          </a:xfrm>
        </p:grpSpPr>
        <p:sp>
          <p:nvSpPr>
            <p:cNvPr id="1127" name="AutoShape 2"/>
            <p:cNvSpPr/>
            <p:nvPr/>
          </p:nvSpPr>
          <p:spPr>
            <a:xfrm>
              <a:off x="285840" y="928440"/>
              <a:ext cx="869472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46836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적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부양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31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2" name="Text Box 6"/>
            <p:cNvSpPr/>
            <p:nvPr/>
          </p:nvSpPr>
          <p:spPr>
            <a:xfrm>
              <a:off x="356760" y="907920"/>
              <a:ext cx="8573040" cy="49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2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학대 등의 순으로 학대 경험 많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,259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학대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14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차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4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2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9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구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3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3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5" name="직사각형 19"/>
            <p:cNvSpPr/>
            <p:nvPr/>
          </p:nvSpPr>
          <p:spPr>
            <a:xfrm>
              <a:off x="285480" y="71280"/>
              <a:ext cx="56437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6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7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8" name="Text Box 6"/>
              <p:cNvSpPr/>
              <p:nvPr/>
            </p:nvSpPr>
            <p:spPr>
              <a:xfrm>
                <a:off x="464760" y="983880"/>
                <a:ext cx="878724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옴부즈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ombudsma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9" name="직사각형 14"/>
              <p:cNvSpPr/>
              <p:nvPr/>
            </p:nvSpPr>
            <p:spPr>
              <a:xfrm>
                <a:off x="285480" y="35676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4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43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4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5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6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92%, 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0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스마트폰 보유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6%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2020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그룹 14"/>
          <p:cNvGrpSpPr/>
          <p:nvPr/>
        </p:nvGrpSpPr>
        <p:grpSpPr>
          <a:xfrm>
            <a:off x="250920" y="0"/>
            <a:ext cx="8750160" cy="6930360"/>
            <a:chOff x="250920" y="0"/>
            <a:chExt cx="8750160" cy="6930360"/>
          </a:xfrm>
        </p:grpSpPr>
        <p:grpSp>
          <p:nvGrpSpPr>
            <p:cNvPr id="1149" name="그룹 11"/>
            <p:cNvGrpSpPr/>
            <p:nvPr/>
          </p:nvGrpSpPr>
          <p:grpSpPr>
            <a:xfrm>
              <a:off x="285120" y="500040"/>
              <a:ext cx="8715960" cy="3458880"/>
              <a:chOff x="285120" y="500040"/>
              <a:chExt cx="871596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120" y="857160"/>
                <a:ext cx="8644680" cy="3072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48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완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48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50920" y="4000680"/>
              <a:ext cx="8678880" cy="2929680"/>
              <a:chOff x="250920" y="4000680"/>
              <a:chExt cx="8678880" cy="292968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120" y="4358160"/>
                <a:ext cx="864468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50920" y="4365720"/>
                <a:ext cx="8572680" cy="25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장애인 응급안전안심서비스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인공지능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AI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물인터넷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IoT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로봇 등을 이용한 노인돌봄 장비 개발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e2947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6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와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9276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안전사고와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5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2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2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응속도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45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52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천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면허 반환 보상강화 등이 요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범죄와 범죄피해에 대한 사회적 관심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3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7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1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58800"/>
              <a:chOff x="285480" y="2298600"/>
              <a:chExt cx="8712360" cy="155880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0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36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중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재산범죄와 보이스피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해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423120"/>
            <a:chOff x="0" y="0"/>
            <a:chExt cx="9215280" cy="642312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856080"/>
              <a:chOff x="252360" y="857160"/>
              <a:chExt cx="8962920" cy="85608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85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 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205000"/>
              <a:ext cx="8820000" cy="4218120"/>
              <a:chOff x="252360" y="2205000"/>
              <a:chExt cx="8820000" cy="42181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205000"/>
                <a:ext cx="8820000" cy="4218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323640" y="2276280"/>
                <a:ext cx="8643960" cy="41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명치료 중단으로 자연스러운 죽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와 생명유지가 무의미하다고 판단되는 사람을 직간접적 방법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통 없이 죽음에 이르게 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177336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220920"/>
              <a:ext cx="8501400" cy="19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들은 장례준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전연명의료 의향서 작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준비교육 등 좋은 죽음을 위한 준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좋은 죽음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91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삶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”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1%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9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전체인구 자살사망률의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.62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배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8.4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 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 침체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9"/>
          <p:cNvGrpSpPr/>
          <p:nvPr/>
        </p:nvGrpSpPr>
        <p:grpSpPr>
          <a:xfrm>
            <a:off x="252360" y="428760"/>
            <a:ext cx="8891640" cy="6000480"/>
            <a:chOff x="252360" y="428760"/>
            <a:chExt cx="8891640" cy="6000480"/>
          </a:xfrm>
        </p:grpSpPr>
        <p:sp>
          <p:nvSpPr>
            <p:cNvPr id="1021" name="AutoShape 2"/>
            <p:cNvSpPr/>
            <p:nvPr/>
          </p:nvSpPr>
          <p:spPr>
            <a:xfrm>
              <a:off x="252360" y="928440"/>
              <a:ext cx="882036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2" name="Text Box 25"/>
            <p:cNvSpPr/>
            <p:nvPr/>
          </p:nvSpPr>
          <p:spPr>
            <a:xfrm>
              <a:off x="428400" y="993600"/>
              <a:ext cx="8715600" cy="52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로의 전환 과정에서 홀로 죽어서 시신이 방치되는 죽음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개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척 등 주변사람들과 단절된 채 홀로 사는 사람이 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병사 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혼자 임종을 맞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신이 일정한 시간이 흐른 뒤 발견되는 죽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유형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97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독사 통계자료 생산되지 않아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 수로 추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02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무연고 사망자는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,88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명으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17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부터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4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간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천명 이상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의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2%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정도가 노인이나 중장년층 무연고 사망자도 다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미혼 독신가구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혼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주말부부와 기러기 가족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가족과의 별거와 해체 등의 요인이 작용하므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에 관계없이 증가 예측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과 해결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동체사회 와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지연을 위한 대책 수립 집행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제도 강화 및 복지사각지대의 중장년층 대책 강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행 고독사 대응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맞춤돌봄서비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자 장례지원서비스 등 실시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민간기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 사망자의 유류품 정리 회사 운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 기본계획 수립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위험자 지원대책 등 규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3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고독사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5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6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7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망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훔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    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하여 사랑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 단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0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8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30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3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4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2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현재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5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6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3:40Z</dcterms:modified>
  <cp:revision>45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